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D883-1AC6-4999-87A8-C6F741A65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12B5-8E57-43CD-BDD1-9BDC1AC54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4EACF-DBAF-4C87-8EF6-904118A65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5092-3961-44AF-8B9E-90F95FCE0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9260-2AAB-442E-A81D-23E710EE2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78AC-9F02-4B3A-828B-792CD8976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A0644-7C89-4DB9-912F-072C6CF64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3649-8DD5-4FED-BC71-4958D3520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A5FA-A176-47BC-B88B-4581BEEE7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F2541-E452-4745-A3A5-2AE8AA77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738E-3228-4454-8792-27A27BAF6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5477-D34D-473D-9AD1-F7C8FB5C0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8D2DB-8116-4871-AC65-8B0F1BBD911B}" type="slidenum">
              <a:rPr b="0" lang="de-DE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Online-Multiplayer-Spiel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z.B. „World of Warcraft“, „Flyff“, „Metin“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as macht den Reiz au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Spiel in der Gemeinschaft („Community“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Erfolgserlebnisse nach bestandenen Abenteuern („Quests“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Riesige Spielwelten -&gt; viel zu entdeck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Phantastische Spielfiguren („Charaktere“) mit „übermenschlichen“ Fähigkeite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Karte von World of Warcraft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  <p:pic>
        <p:nvPicPr>
          <p:cNvPr id="50" name="Inhaltsplatzhalter 8" descr="WorldmapOfWarcraft_RC3.jpg"/>
          <p:cNvPicPr/>
          <p:nvPr/>
        </p:nvPicPr>
        <p:blipFill>
          <a:blip r:embed="rId3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Item- und Fähigkeiten-Ansicht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Inhaltsplatzhalter 7" descr="Item_Socketing.jpg"/>
          <p:cNvPicPr/>
          <p:nvPr/>
        </p:nvPicPr>
        <p:blipFill>
          <a:blip r:embed="rId2"/>
          <a:stretch/>
        </p:blipFill>
        <p:spPr>
          <a:xfrm>
            <a:off x="1317600" y="1600200"/>
            <a:ext cx="6508800" cy="45259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3" descr="G:\chaosknoten.png"/>
          <p:cNvPicPr/>
          <p:nvPr/>
        </p:nvPicPr>
        <p:blipFill>
          <a:blip r:embed="rId3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Spielersicht in einer Instanz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  <p:pic>
        <p:nvPicPr>
          <p:cNvPr id="60" name="Inhaltsplatzhalter 8" descr="woww.jpg"/>
          <p:cNvPicPr/>
          <p:nvPr/>
        </p:nvPicPr>
        <p:blipFill>
          <a:blip r:embed="rId3"/>
          <a:stretch/>
        </p:blipFill>
        <p:spPr>
          <a:xfrm>
            <a:off x="1619280" y="1600200"/>
            <a:ext cx="5905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Online-Multiplayer-Spiel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Kritische Begleiterscheinung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Online-Verabredungsdruck im Te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Dauer einzelner „Quests“ bis zu 5 Stund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achstumsdruck , um den Anschluss 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an die Gruppe halten zu könn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Spielkomplexität begünstigt Suchtverhalt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Laufende Kosten: Monats-Abo (WoW) oder optionale „Charakterupgrades“ (Flyff)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Realität </a:t>
            </a:r>
            <a:r>
              <a:rPr b="0" lang="de-DE" sz="4000" spc="-1" strike="noStrike">
                <a:solidFill>
                  <a:srgbClr val="ffc000"/>
                </a:solidFill>
                <a:latin typeface="Wingdings"/>
                <a:ea typeface="Wingdings"/>
              </a:rPr>
              <a:t></a:t>
            </a: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 Virtualität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Realitätsflucht als Gefahr, Symptom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Abwechslung der PC-Tätigkeiten nimmt ab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Nutzungsdauer erhöht sich drastisc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Offline“-Pflichten werden vernachlässig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Entgegenwirk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Gemeinsame Aktivitäten plan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Offline“-Erlebnisse, z.B. Wochenendurlaub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Eventuell professionellen Rat suche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9-06-24T15:53:12Z</dcterms:modified>
  <cp:revision>140</cp:revision>
  <dc:subject/>
  <dc:title>Folie 1</dc:title>
</cp:coreProperties>
</file>